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1E20-3ADA-4BBD-8E26-1C2BF8FD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6681-25CD-400E-992A-876213DB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40762-84AB-4761-93CB-E3370712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32D4F-5BAE-4AA0-803E-86BA2CF4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82922-967C-431F-A4A4-65EA47D7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4A9FC-A6DF-4DD7-8226-2D92BD59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CB13E-1DDA-46AB-8BAE-FE079D29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5AD7B-9944-45B9-AE47-18866974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3F35A-1520-47D5-A5ED-96AFD8DC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B5346-7698-4472-8E30-5D9FE4CE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383BA-EE9D-4FD2-9BE6-CA3C1169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12202-B32F-4FC1-B021-E2D101E3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F338-3CA0-48D2-A132-595205AD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348D2-EDEF-4E3A-91FB-D2A7AA8C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FD323-AD7A-4A65-B58E-7C712135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0D460-C129-4F85-9905-CDCC988E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96D38-0243-4107-BD85-71F023CB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5F19F-D13A-4213-80C3-9ED255C7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20F91-371D-4EFC-85CD-0EC42495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58180-A743-494E-9B74-688F9AE7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7C969-2E18-4820-83E5-612D45F7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E609A-E176-4022-850E-6B3F528D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74815-8A87-4A0C-B5E8-FFDD27A7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20EA-A65A-479B-B76E-5DA724B57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B53E2-D654-479A-96A3-B675B3C5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55D9E-C4F4-4FA6-8763-B09336B7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65A56-C039-4FAE-8398-2CA52C99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EA518-F23E-4D2A-922E-ED8E9505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2C70A-BD7B-4720-9C96-1B639B4C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8077B-F61A-4845-9F47-DEE765E4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3261E-A632-41E3-AA74-84F310B2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A2960-0595-4B57-B079-0B6EEA3F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92A1E-7FFE-4531-A801-8C9EED08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30659-517D-4416-B5D0-B9795245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61E1-451E-435A-9267-F4E55D85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5C60E-8BAC-44AF-96EA-5A9A487F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B0504-2779-4F00-9292-077508E4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295A4-1340-4401-9802-7109B1F8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8E343-FCA7-4E36-B039-67274C9A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3BF33-C12E-40FA-B436-9FED19D7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454B3-F665-4638-825B-033A897E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522EE-B2C8-45F6-ABD8-D70E08EA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AD2B0-8ECE-4461-8070-7217F1DB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25573-96BD-411D-B1E7-311F87BC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52225-2269-4618-92CD-31CB19D1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FE60-A9AF-4BD0-A553-42884E85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EC0C0-2B66-448C-A02E-C3D8C1D3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AE5F6-C864-467B-B390-5D6EEDC6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413C1-C624-4985-A4BF-B1D3E7AF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EFB5B6-D95B-47A8-B848-F25328AA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7DF0B-3846-4F29-BD83-4F6F0625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BD05-FDEA-4ED1-8836-3C8345BE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8EF1-C9AB-42AD-A0ED-ED52C56B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B1E9-6D26-4F3C-89C6-6CB24CFD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48CC-9893-4691-9239-FDFDB789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DECD-137E-41E0-909C-3A6DAFD1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C405-B848-4AE3-A1B1-40FD2694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AE05-2075-42AD-A31B-F1517F14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F441-414C-4490-A53C-46A7B55C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5A54-755A-4848-AEEA-6AFBF433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0E26-F7FB-46E6-8F7C-1D24671A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A682-1532-4EEF-8F5B-3A178453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BFAF8-0A73-4D2B-9F63-EC4C3CDB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D83C2-B65E-4019-AEC0-CB395405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C7538-3C71-40DA-9E7E-A06C830E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CC363-B317-446C-9A5E-A03CDA98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F2ED5-B636-4BEB-888C-5DC669CD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7F10-9C17-4D6A-905E-E2AB7C37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968FF-5E5C-4E5F-A10E-9DAF5559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A306A-AD1D-43D9-928C-7CD1671A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50E79-F38D-44BA-AD25-502BCD36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233D9-1ADC-4139-98A0-54C29983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C4B23-C868-4F7A-9C19-558B1DE2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1F9B2-09B4-46CE-8958-FC880C19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1308B-A545-478C-86AD-382125D5A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7E0A1-9A1D-4DD2-91DF-A030F459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4946C-EC4A-4838-BBD6-D6A9889D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BB3C1-AD51-4FBB-913D-C8972822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FB33-D6D2-4E0A-AE9F-F43CD2FB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DF380-15FA-450F-937F-3FB1233B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629A6-44C0-48C4-B028-E0FD1F17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570C1-8CDF-4E66-96F9-BBB5322E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D8CE7-967B-4E6D-B38F-C92BC7E6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F45E8-2784-465B-BA05-0E440A8A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637F4-0B3B-4A17-9539-034E6FB5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170F3-681D-4F56-BB2C-2C0B0936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7AA7B-E47D-4355-AD44-E8C85839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4A69A-3D9A-48A3-83FE-6E804170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0EFC2-B7C5-4116-93CB-0D30A286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264D-4B4B-4766-B3D3-79A027C9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4968C-205B-410B-BC44-A840FD51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943A5-5D88-4521-8C26-BBAD1C80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FBD79-06E3-47C4-97D6-24F4C222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C4A85-F432-4105-8483-C49D1494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E6C4C-FB0A-4057-A3A5-E4F5F61E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9DF79-647C-49D8-A567-64A2D5EF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E4FE8-FCBB-4001-A720-3A2C9902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DF03C-6530-47A7-BF0B-DA51CDA0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403AA-1C16-4F3E-A516-797D82D5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1D974-4E0A-4559-9893-1E82CEB9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D63A-EB36-438D-B453-B9EFC81A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0FD08-9D6D-4375-93C1-C13BDE45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452E5-BCB5-4C90-B823-66BE376A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2DBF7-8B8B-4622-945D-6433830D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46886-13AB-4151-861D-F1D88F73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26BF2-1584-4216-88B5-9F10F8E9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EC328-85EF-4060-89DA-1F642514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46AC9-F40E-4A31-9DF8-266CBAEC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1CBD1-64A0-4823-8DD6-3598A7D4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BD634-D09C-4AB0-ADBE-88FE1E1E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41E6C-E520-4164-9E64-A70E4E0C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2968-7FBE-4990-B876-DBAA4695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C05D7-1BB1-4F61-BAB7-3BDEAC4A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4882B-BEBF-43BA-A6CC-6C4A10AB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F91F1-9DB7-4F9F-9024-6D902A37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0F3E2-5717-498C-8E7B-CA286B27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6D48A-CCA8-41F7-85CD-A9928E99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E7F4C-4B02-4AAB-BA72-EDFF2AEB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43CDB-ECF0-47EA-B1AB-9B6338D7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EAF50-5E92-4ED1-B7D8-6A2AE7C1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F43E8-BF90-41A2-8FC9-ADF5E771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F203F-1BBE-4832-AC22-857D837F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AA96-EB51-45A1-BDD4-56E2F378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1B6B1-4806-44FB-85FB-A6A2E9E4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91F1D-499A-4F88-97EF-B1CA24DF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2CFD6-053B-4449-A5FD-48E6E6B6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CB4CB-4C4E-4EAC-9802-188F1C2D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684D4-A0E4-47AE-BD5B-E37C2C70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597F5-0301-47F7-A1BE-C9216E0B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74B5F-ADA7-4CF4-BACB-F0B6774F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50E44-69C4-4989-AF03-FB5E3E99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7587A-530A-459B-A4F2-F2AAC25A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D2619-83B9-4D97-B27F-C1FEFFF7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0B03-A4D1-4393-A6EC-6344720A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0DAED-4DB8-4B4C-8A29-DA0B6FA2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3EA48-3CF9-4106-9B65-2AE785EE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502F5-7C9F-478A-A1BD-A651EA4F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040FE-1AE6-4EF0-B572-EC46F74C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05DF8-D248-439A-9940-6F7F9F8A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890E9-E40C-4FF8-9D1D-23873E3C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1E0A5-8825-4733-8309-8F528793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C1BC5-403F-4AB7-8419-7CD8CDBC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0A727-C1EC-4DA2-B65F-C9F11103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37F98-60E4-4DF8-9FAE-56A3F282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1C5F-7CA7-4529-A16F-637D97F80C7F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CEF3-1330-4F82-8C6D-59E47EF0CD2E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CB4E-48B4-46B7-B219-520FE6815C87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2D49-FE0A-48B7-8128-EFFCB4C5BA36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32F6-BD39-4F8A-917B-5F2C663420ED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D93B-1B19-4DBE-A200-CA18164FCEF1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E63D-6628-4DF2-B8F4-438270C5BBD7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7A9E-661C-4E38-8995-198EF154DEFB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A904-77CD-4634-887A-B6C8F3D6445C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74FE-EE08-48C7-9E9B-ECAB1AE1D677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48A3-934C-46FD-8BC1-86D2BBEA46ED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76767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0F45-0CED-47BA-BBC1-C321FA7CDF54}" type="slidenum">
              <a:rPr b="0" lang="cs-CZ" sz="1200" spc="-1" strike="noStrike">
                <a:solidFill>
                  <a:srgbClr val="76767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Aptos Display"/>
              </a:rPr>
              <a:t>Komponenta prijem-f5.ppt</a:t>
            </a:r>
            <a:endParaRPr b="0" lang="en-US" sz="60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ptos"/>
              </a:rPr>
              <a:t>Testovací komponenta Atestačního středisk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ptos"/>
              </a:rPr>
              <a:t>Česká agentura pro standardizaci</a:t>
            </a:r>
            <a:endParaRPr b="0" lang="en-US" sz="24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6-18T07:19:45Z</dcterms:created>
  <dc:creator>Tomáš Bezouška</dc:creator>
  <dc:description/>
  <dc:language>en-US</dc:language>
  <cp:lastModifiedBy>Tomáš Bezouška</cp:lastModifiedBy>
  <dcterms:modified xsi:type="dcterms:W3CDTF">2025-06-18T07:20:32Z</dcterms:modified>
  <cp:revision>1</cp:revision>
  <dc:subject/>
  <dc:title/>
</cp:coreProperties>
</file>