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984-CC69-424E-98B2-806BDD55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7A7-D11C-424D-A7C8-8AF6E72C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EB6EB-0DDB-482D-B2DC-A7198A07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0A72F-6DFF-4AC5-AE3A-B1494B48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F32C9-AA0F-46C8-91E5-4B6C37F0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7B939-3178-4851-B09D-143D0969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86E07-E8C2-4352-8033-504CDB2C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A67E8-45A1-4231-A3BD-3D4D942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29BF6-F79B-46DD-845E-48D7A702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5FCDA-0F75-4AB6-A7F6-84F615D8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95E80-184B-4250-B51E-DE26C6A9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4B6D6-1BE9-48C9-8415-07729E42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143-41B8-4538-AE65-8D835E09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FC490-3A15-46B7-9CDD-FD31F2C8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BEB03-512D-4E21-AB9A-A71F187F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ED5F6-458C-4A2D-B5BE-A24780FE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6D411-59E7-418C-AA90-EA029527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FAB6C-A923-4B86-AD87-FDD1AB59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983E9-C3F7-44E0-A57F-A7F3CC7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C2F60-CB37-437F-98C2-D759989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0BDFD-1BEE-40DE-8D98-626F4149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CFAFB-53EA-432D-93B2-931CEAA4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91882-AAB9-4ED6-830E-01F54246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5BB-43F7-4D9B-B3BC-54B17F48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57063-0669-4E67-876F-7C8306A7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8F24B-2DED-48A6-838E-67237572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5407A-580F-4697-940C-7A3C7506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5DB7C-24AA-485F-ABC6-F90253E6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84365-DAAD-4AF8-802F-5D138979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C78D2-752A-49CB-931A-D00A02DB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E9905-F76C-49C7-9DB5-095B8DEC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EE513-2B3D-481F-8C76-59B355C0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FD961-99C4-442F-A307-AFD4CA9A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AD55F-AF1E-44FE-A6A6-133CA04D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B434-E501-477A-9C6D-2AE98D0A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A4C91-B27E-40AB-B463-A796C8E5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2A773-BD97-4901-8671-FE34BD16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8D393-AF38-4AAF-B56F-A096854B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E694C-111B-4BC0-91FF-90B8C633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7ADCA-CF6E-43F4-8DE3-E14E64BE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0F694-561A-4670-8E51-EB50E4C7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AD3D2-8B41-44C0-B3E4-EEE52B50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65F7A-4A60-449A-A189-3B4D2B60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C077D-C802-4F6E-A24B-BAB87291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8CE7C-9B5E-4F2E-AFF8-57EB6A3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2DC6-27EB-4122-80F7-F07F30FC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5D49A-74F2-46B0-A632-7ABFDF18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D014A-D9F0-4937-80C2-DAD93F30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509D6-4AB4-4930-8151-D3E2B998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6933B-ADED-40A4-B185-324C53BA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B6911-5783-4DE7-89C6-F5C61B29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ED5E-574B-43DC-9847-91323424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A0A-792A-4A78-B28A-C6721505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C024-0429-4CD7-9C32-DEB3D515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95C6-0FCB-4F51-A1B5-EDE107F4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0DD3-5FBC-4675-A855-A2D7A350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769-DDA2-415A-9F7E-D4AFA7D5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63AE-154E-4BF2-A3E7-10CC1D12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A76A-F46B-46D7-A82C-798B0FA6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44EA-ED86-4CA6-93B9-B37ECFF7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47AB-8166-4E7A-A5FD-41B7BBE7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0C34-A810-47AC-90FB-51048F8F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C9F7-FBB2-4E7E-B4EB-A82E8312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4D5E-3EE7-4DD0-9A93-715C0EED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607D-4CDA-4C41-BE47-3F32A6B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ED4F-4CF2-4D28-B2EF-CED20BD7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8262-1797-4556-B21C-E892729B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568-C24C-461B-A6F1-797D9BC5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F508-3F00-4E5E-97DC-31F0E9A5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C0763-7D48-4909-85D1-DB8B9D87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3580-ABCE-4EBA-B7A9-923F61BE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75259-8C8B-4807-BEB1-0C829348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5014-FC9A-4A9B-AA12-E017C503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34DB-9F0A-438F-B933-C422C7E1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663B-CED1-4D2E-9F38-82F99525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B7C48-D20D-4E04-AE34-A459E03A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3BBCE-0834-4564-9045-DE00F533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C4E0-F976-43F2-B268-5E0ADBDD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2FF-EB24-412D-B4E7-791CC9A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59D87-849D-45E1-BAF1-3B729755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BAD3-D536-4326-ABD2-4C0E575D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A65F2-3ADB-43D1-B930-433254A0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371F-E843-4013-AFA4-BCD1A90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6FF5-5206-439B-A6BD-C99BA4C2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64E6C-B7EE-4E56-96CE-A550E88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38317-A97A-4A20-817B-DFB63406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C6121-79F2-49A9-A5E2-821271A5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C914-254B-4380-9F34-C38054D2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98188-6916-4F1D-AF7A-A7E2E2EE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615-F085-4585-8679-354932B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BF533-8DB0-424D-A5C5-D233F715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D0F4F-73E6-45C5-8319-7FEEF222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3CFD7-33CF-4475-8B5E-726538C9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051B-2D92-437B-82C6-C1C231DA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5BD02-7E75-41C4-B6CC-C61DFE53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A1BE-2E26-49CD-BC5E-71F059C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5BE3-796F-4CB4-AC57-FE1382BD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0A2D4-449F-4A46-B346-90065D63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C48B7-6B0F-4C67-A1C8-BBBC5438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B764A-52B3-46AA-8AD4-11F70622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75D-82B1-4F7A-9E73-BB1ADFA8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61CE3-B63D-4C5D-956F-D39B46DB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0C4A-0F88-4F97-B638-6A6B2A8F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B1762-3131-4AC8-9C8F-47B16AC1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FF9CB-C21F-4768-A890-A4CC73AB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B5E76-7FFC-400A-9DAD-44736FBE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78587-8245-4FF3-A5DC-08FE8C3A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60D9C-97B4-4748-BE2B-2B0425C0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BDEF7-24F1-4560-BD75-7BAE453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C6873-5DAC-4A99-A4A1-BDDD8AA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B4A9-2B4D-4B05-8E80-DE786698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631-CB70-48FF-9AD4-2B5C5927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18457-A647-4839-B774-E8E97CA1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8D328-D954-433E-A374-46BDC719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504BE-7351-4976-85D0-1B2EABBE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F2F41-C915-4DBB-827E-44E39245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B3266-6BD9-4C71-A1C4-A9656369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297EC-C060-4E95-B652-8873756C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DC3D2-379F-47DD-9808-A7B3F737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80C69-FDEB-4A2C-8078-C5F1DBE7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F5A05-2305-4441-9804-C409A7A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4EC32-9FD3-4AD5-9514-5F55550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7C5-65EC-4FAC-8821-0D7C1341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AA96A-2DCB-4A14-A668-7013719F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1C765-607D-49FF-A967-88C13606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CFCD8-8342-4236-9C0E-2E41CD1A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911E3-03FD-402A-9E7C-85A68C0F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04F73-AD95-45F4-AAE1-24E40C2A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BA3DF-5CB7-4E50-8642-506A06FF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4D709-7E27-4C5A-A279-1AA58041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F4040-4045-402F-890C-523FF608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98693-771F-4789-9D1A-AB5C5DD1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80B4E-45FE-4043-AE43-9CC4C19B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562-FF6F-472C-A141-42D93612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1C47-426F-4D7E-8076-52796880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1BC98-D2A6-43B1-B9F8-D2BC53F4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05A01-8F60-4B8B-B47E-AC3C5FF6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BB27B-9E7C-4FBE-B527-F24A356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21193-34D4-4100-BFBA-68D1FAD0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BE377-A092-4B64-AB14-04BF67BF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C87BF-899B-4F26-8525-3BFA1B1E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E722D-3646-4F15-837E-99D351A2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BA89F-5C39-4968-B32D-BAE60A9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7B116-2E64-422D-9C96-8C487896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3D4F-BE7F-48BD-A19F-21CB78FF66A1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510-0D89-46A6-BAF3-47F01E2AFE15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4027-E2BA-4D07-B49E-C2365D86B370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95B1-294E-457C-AD99-F76665BAA723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CFA6-ECCE-4D10-B540-7E0D7545FF79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4CA3-7D4F-456D-ACFC-9B69AD652AAC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85CC-8E91-4687-BFFB-B6B13D773C1A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B84C-276C-4D15-92CE-88F90F03E228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CD72-4448-41B7-A9EA-D94680617F53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D34F-8888-4402-A3D2-F0BBFC50B7F3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3F00-8A6B-46B6-807A-1857B0A9221A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B7CF-384A-4983-8D94-CC27662746F1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Aptos Display"/>
              </a:rPr>
              <a:t>Komponenta prijem-f5.ppt</a:t>
            </a:r>
            <a:endParaRPr b="0" lang="en-US" sz="6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ptos"/>
              </a:rPr>
              <a:t>Testovací komponenta Atestačního středisk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ptos"/>
              </a:rPr>
              <a:t>Česká agentura pro standardizaci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6-18T07:19:45Z</dcterms:created>
  <dc:creator>Tomáš Bezouška</dc:creator>
  <dc:description/>
  <dc:language>en-US</dc:language>
  <cp:lastModifiedBy>Tomáš Bezouška</cp:lastModifiedBy>
  <dcterms:modified xsi:type="dcterms:W3CDTF">2025-06-18T07:20:32Z</dcterms:modified>
  <cp:revision>1</cp:revision>
  <dc:subject/>
  <dc:title/>
</cp:coreProperties>
</file>