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CBC-7C52-4A90-8655-FEBF25D2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0ABA-3696-41E3-9140-EC49BEB7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F088F-F6D7-43FC-B3FF-F0AFE86A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A2488-B441-4B3D-9637-96BCBFA1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29769-0F64-4240-8375-BA567E0C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93F01-3FEF-40CC-991D-998DFB99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3B89F-1CC2-4D2F-9FBD-AEB9A931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90FF1-D97B-4DF6-B08E-1163F9EE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2AF1D-A3E9-4551-9086-F4A85969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28E19-07EE-4C18-A87D-2F0A1710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1793E-2D07-43AC-852D-FB1289DD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0FCE5-1C9D-4312-8105-8FE6ECBA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9DC-53EB-489F-BB83-0401D586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79BCB-4282-4D54-9279-4E474D0C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559D3-853C-462B-B074-04641BCD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CE1E9-03B8-4722-A2B0-67E3D89A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50F61-0D1A-449A-8095-0D26B699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B6371-4AB9-4D77-BC7E-7A8823EF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B13E1-E464-490F-A295-84EAD7DD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0B1EA-F8C1-404E-B903-AFBE4C1A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3F18C-C4B7-466D-BFE9-BAF14A3B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83CE4-2769-4D36-B50D-4A0FA919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48AAA-B58A-4D69-AF6E-CB9C6BE1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62F-D9A0-4CA6-A40D-1D47A8A5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7D732-4DD3-459A-9D1E-FD5262B8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967A3-08E2-471E-BA03-85966E87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BE841-AC03-4C33-AEFF-BF716E81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35792-CD5E-4ECD-BC16-26D9C8C9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90613-4D98-45D1-90AF-EE8D5BFB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7DF11-3A62-417B-891E-AF7B79F8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E9FBB-CED6-45B1-B5DE-DF815722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5348B-798B-4FC7-A457-93801BCB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A15C4-5A68-4DB3-83C9-B4CAF3FB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7A77B-2C47-406E-A071-7F8F7242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0ABF-E842-492C-A375-9183B112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36B34-84C9-4784-8FCA-C6FF498B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3D59D-81BA-403C-8C86-21A48314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6F79D-040B-443E-B68C-4090ECCF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BB4BC-0491-42DB-96D4-28ED143D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C3F10-9E74-44CE-90A8-7EC04F01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A988F-DD06-4071-9A8B-EC40E178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26571-BAD0-4BD0-B2B3-A062E94B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6BAFA-BF17-4FD1-BECC-301A7795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57B67-6124-4695-B0B5-6274248D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80409-70F8-4D48-81AB-487FC88D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0937-3B95-4BF5-8969-1533641A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B48EB-2F57-440A-80FF-DBF961F0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446F3-43E0-459A-8DC4-C158FA0F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6E2CC-4C4D-4B57-8E36-0B6FDA65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EE684-8014-4922-94BD-116FFC07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84DDA-AFFD-458C-BEED-4C95F299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983B-5397-42F2-946E-64D9B912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B0F1-ACCF-4F07-B0BE-438CEADB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EA05-414C-418B-87D0-77B5771F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7885-3F63-43D6-8DF4-B0FF205F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5B21-C411-41EB-8415-9565DE7C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594-42F4-42A1-A10D-E47546DB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62D5-A4A9-4EAF-8374-3C5F145F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B152-231F-4C2E-BA6F-D57568C1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FA48-3ADB-4EC5-8B3B-C624890A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77C6-41E8-4B0E-B3CA-DC1B2106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91C5-28BF-404F-8F5D-943DA4FC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A3B0D-3FE6-4078-846F-A204FE4B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7E0F5-7315-4623-ACFD-7FC5BFE6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284C6-3931-4CEE-8A59-1866870D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CB839-DCBF-4436-AA07-E903DA1A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8E0E1-B0F1-4F9A-8224-FD3C42F0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C4A-807E-4002-82B8-FB6AB1C0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3C26D-DC1C-48E6-88DF-ACD8DDFE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48DF3-95D6-41DE-AED7-349FA1AB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7B1AC-12BB-4666-892C-5EF9D18C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89B4A-0423-419F-A87D-949C7CDC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33225-E0B4-48E7-ADA8-F2B083EE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FE470-B229-443F-86D8-6DD078DE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99A22-046B-45AF-8836-646CCE45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804B1-B242-455E-954D-AF0D591C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4EB5B-2F2B-414F-B497-AE209D6E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B974E-B0AA-4598-A5FC-D62D3AED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2099-43A2-4F32-806F-225B2610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DF590-80DE-4CA0-9BE5-4F5F9BCB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225C5-40BE-4FD5-B1D8-1FF7DE55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E7741-9211-464B-8146-449E0E27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86839-4D84-4CDF-A09E-BF17B07D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66F1F-3539-4B22-9914-B14A1DF3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B175B-AFD2-4074-BDA5-93A824EB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0D598-C24D-48E1-8541-70A8B0E1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D872E-9C30-4968-8742-85F8D4BD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10538-06F6-4DD0-B247-17CB5CAF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41C59-5E03-40C0-AC4B-2751B2FC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01C9-0A0E-4755-9ADC-8BE8ABAC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C4479-4ABE-4686-BE95-6AD1D644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7EA9A-59B8-4343-AC6B-B20E4ECF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1DCCB-5114-4FC6-B41C-44208D42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DD75A-91F9-4426-8E44-B3CE19E6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384E4-5E7A-420E-8726-F31753DC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E6CC2-EF5D-4164-9BC5-7D46D55E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EB754-6DA4-42E7-98C8-60BA4876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6FA40-067C-430B-B546-CEB60D87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EB871-466A-4A6A-A914-D3A97EBA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70555-B147-417A-84A9-AA358234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F89B-D72A-4FDC-B58C-FC075FF9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C9795-7C96-4557-A620-DD27523F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A1531-52F0-4A60-9F4F-B7B0C9CB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4276D-DF38-4530-BA47-C407F47E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87678-9CCC-4BE2-97EA-A2A1B51E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643A8-019A-4A83-B1CA-C7E077EE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FF6F6-E5B9-44A0-B2B1-14225AC1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E5BC1-6DB9-4D43-93D1-9EF8918C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19CC2-0222-4896-AE5E-00CC4378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27FB4-457F-4CE1-92B9-59AA0862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AE015-C22E-4C42-BB33-96E9052E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BED-AADF-456D-AD8A-31B01BA7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43E3C-0A2F-489F-BC60-0FE4FB7F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38DDC-1A53-4EAA-9CED-3D99BDE3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EE3A6-8623-4925-9F10-AAC0899A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DBE80-964F-49CC-856E-5E4A2380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84AD4-6C4C-486A-9BA6-C3E5FB53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64526-49B1-4946-85AA-917EC7A2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7F572-CD87-4CBF-BDAD-1ED95AD0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764B2-8F4E-4510-810F-EB08B511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D888A-677D-4CB9-B14C-BE0F699E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A1E0A-FA8C-47A5-BAD2-0F135F40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5CD-C636-40FE-BD8C-A822E534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F74F8-70F6-428C-88B5-77008680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B5B17-BEC2-40DA-AFC3-725FE7CC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17A87-14FF-4689-A89C-C803D01F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6D504-2894-4F0D-9748-929B5466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800C3-80B4-400A-80BC-0DA6E6B1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897B6-AD67-47F3-9C55-DB380D11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02178-4126-42EE-BE05-EC818B3E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C1043-E9B0-4EE9-96BC-D8615A5C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06866-ECDC-4965-86D2-E085FCFD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A302C-5B01-41AC-907F-AF252B36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23B8-84CC-4EBA-B9AB-2681DE54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6D46C-FAD2-4AFA-AEA7-B1E46683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A2845-F05B-4140-9B14-64464357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B37F6-F732-4B2D-BE1D-5A7ABEB0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3219F-05F0-4287-A74F-01765B59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330F1-7FED-4165-9691-60D95DB1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D25E5-D8FA-467D-AFCF-8FF519AE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7F002-784E-459D-9396-9630942B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CF055-4DAC-4F9E-875D-91F5055A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A7FF9-A410-4BC9-B8C7-8B23349F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44506-FA76-480C-8627-6265837A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79B6-21F1-4F05-ADE1-51860F9F56BB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0471-C2CD-421D-A6B2-C55E6807DDE7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B79E-544B-4771-B187-311A5BA0E5ED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A476-8423-4D50-A64D-C99275FF300A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F557-C369-4D6E-9FDB-DBD2EE3BF4DF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36B6-678A-4AE5-BC2C-8BB2C246C2EC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1F64-2C20-41EE-8C12-6EE267D8D679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7845-DBDB-4CF9-AAC9-3F586843410D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68C3-0039-4A5A-9CC9-CF0CEBB38F1E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AB08-6873-4F47-A927-79E9D4400711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5D62-5517-4699-8680-FC9BFD0F28A1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E512-C258-4361-B2C1-CE510CF0064C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Aptos Display"/>
              </a:rPr>
              <a:t>Komponenta prijem-f5.ppt</a:t>
            </a:r>
            <a:endParaRPr b="0" lang="en-US" sz="60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ptos"/>
              </a:rPr>
              <a:t>Testovací komponenta Atestačního středisk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ptos"/>
              </a:rPr>
              <a:t>Česká agentura pro standardizaci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6-18T07:19:45Z</dcterms:created>
  <dc:creator>Tomáš Bezouška</dc:creator>
  <dc:description/>
  <dc:language>en-US</dc:language>
  <cp:lastModifiedBy>Tomáš Bezouška</cp:lastModifiedBy>
  <dcterms:modified xsi:type="dcterms:W3CDTF">2025-06-18T07:20:32Z</dcterms:modified>
  <cp:revision>1</cp:revision>
  <dc:subject/>
  <dc:title/>
</cp:coreProperties>
</file>